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0ED-BD93-40A0-A156-43B46E2D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A2F-1331-48C5-A589-7DD6E2E2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215-7955-4B92-919E-C1719000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D3C-2872-4E10-8C7D-CEE1C586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0CE-8750-4A25-9989-C67B8D08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8EA2-84E3-46F6-A24F-2DCE1AFA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10D-1C67-4569-B20F-EAD53127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DCB-B7BA-4621-82F9-CF202741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4FD-C1A8-452B-8E74-805B04EE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CAB-8A89-4F07-B942-30C2F222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9C7-8FAA-489B-9A3C-B40F73F1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F9B-DFBD-4E29-87BD-E622F81A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67E9-FF3B-45D7-B550-3367C14453EE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8900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標楷體"/>
              </a:rPr>
              <a:t>Bluetooth To RS-232 –One To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720" y="2565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24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112536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093080" y="2060640"/>
          <a:ext cx="863640" cy="2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2060640"/>
                    <a:ext cx="86364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 flipV="1" rot="10800000">
            <a:off x="3995280" y="1844640"/>
            <a:ext cx="1295640" cy="5047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16000" y="1844640"/>
            <a:ext cx="1152360" cy="804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627280" y="1773360"/>
            <a:ext cx="1008000" cy="92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2195640" y="2276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580000" y="1700280"/>
            <a:ext cx="100800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6588000" y="220500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197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to one -  plug and play , do not  modify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4880" y="2708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-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11960" y="27082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-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11120" y="3956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981000"/>
            <a:ext cx="849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429264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39640" y="2997360"/>
            <a:ext cx="3961080" cy="3430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96000" y="44370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4714920" y="2997360"/>
            <a:ext cx="39607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667640" y="2492280"/>
          <a:ext cx="863640" cy="2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7640" y="2492280"/>
                    <a:ext cx="86364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187280" y="189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標楷體"/>
              </a:rPr>
              <a:t>    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標楷體"/>
              </a:rPr>
              <a:t>Bluetooth USB Dong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924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4520" y="1700280"/>
            <a:ext cx="30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luetooth USB Do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332000" y="2421000"/>
            <a:ext cx="1152360" cy="804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6160" y="27082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 rot="10800000">
            <a:off x="3924360" y="2421000"/>
            <a:ext cx="1295280" cy="50472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100836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5367240" y="3357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-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4160" y="3141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0000" y="263700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2565360"/>
            <a:ext cx="360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852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7600" y="335772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USB Do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907920"/>
            <a:ext cx="820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227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95480" y="4024440"/>
            <a:ext cx="73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luetooth Dongle like a master role , Install the driver to the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Run  &amp; can find the bluetooth device at you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Key-in the pincode and Dongle can connect with bluetooth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84880" y="532116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ote : Most of Notebook , PDA &amp; Mobile smart Phone have built-in blueto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it also can  find the Bluetooth conve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1152720" cy="80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667640" y="4797360"/>
          <a:ext cx="863640" cy="2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4797360"/>
                    <a:ext cx="86364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187280" y="189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標楷體"/>
              </a:rPr>
              <a:t>Bluetooth To RS-232 –wire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1341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08720" y="263700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24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3280" y="112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S-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96360" y="3284640"/>
          <a:ext cx="863280" cy="24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96360" y="3284640"/>
                    <a:ext cx="86328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 rot="10800000">
            <a:off x="3995280" y="2851560"/>
            <a:ext cx="1295640" cy="50508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557360"/>
            <a:ext cx="1584360" cy="0"/>
          </a:xfrm>
          <a:prstGeom prst="line">
            <a:avLst/>
          </a:prstGeom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56360" y="1413000"/>
          <a:ext cx="863640" cy="24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56360" y="1413000"/>
                    <a:ext cx="86364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7236000" y="1268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042920" y="2997360"/>
            <a:ext cx="1152720" cy="804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2627280" y="2852640"/>
            <a:ext cx="100800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2124000" y="3357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5940360" y="2852640"/>
            <a:ext cx="100800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020000" y="33577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213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88560" y="1197000"/>
            <a:ext cx="27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RS-232 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560" y="2224080"/>
            <a:ext cx="162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ne to 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g and 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11440" y="380844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luetooth-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70880" y="386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bluetooth-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6720" y="424008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3. With Bluetooth USB Do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1"/>
          <a:stretch/>
        </p:blipFill>
        <p:spPr>
          <a:xfrm>
            <a:off x="1187280" y="4653000"/>
            <a:ext cx="1152720" cy="804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13080" y="4797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0800000">
            <a:off x="3851280" y="4723200"/>
            <a:ext cx="1295280" cy="50508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2"/>
          <a:stretch/>
        </p:blipFill>
        <p:spPr>
          <a:xfrm>
            <a:off x="5867280" y="4437000"/>
            <a:ext cx="1008360" cy="92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5654880" y="551664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-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82880" y="43657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20000" y="49417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4869000"/>
            <a:ext cx="360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50846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3600" y="544500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USB Do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0:09:05Z</dcterms:created>
  <dc:creator>MC SYSTEM</dc:creator>
  <dc:description/>
  <dc:language>en-US</dc:language>
  <cp:lastModifiedBy>ox01ox01</cp:lastModifiedBy>
  <dcterms:modified xsi:type="dcterms:W3CDTF">2011-04-27T12:51:00Z</dcterms:modified>
  <cp:revision>28</cp:revision>
  <dc:subject/>
  <dc:title>投影片 1</dc:title>
</cp:coreProperties>
</file>